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1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89856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2"/>
          </p:nvPr>
        </p:nvSpPr>
        <p:spPr>
          <a:xfrm>
            <a:off x="126036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POWER CORPORATION OF INDIA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3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EFC7-8D40-495C-99BE-393EDAA3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126036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POWER CORPORATION OF INDIA LIMITED</a:t>
            </a:r>
            <a:endParaRPr b="1" lang="en-US" sz="1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9856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1260360" y="9264600"/>
            <a:ext cx="2889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POWER CORPORATION OF INDIA LIMITED</a:t>
            </a:r>
            <a:endParaRPr b="1" lang="en-US" sz="1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9856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CA26-D4B9-44D1-B74C-8D1E5BA3E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6203-F596-4F62-B644-E74B5370C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8886-C507-48C8-94A8-A00EED6EE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94AA-D59C-42F4-896E-3E902FCC6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F2E70-A3F9-422B-8586-FF12C573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092F1-7F00-40A3-9084-AD058D0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064F6-5E21-4D04-8C53-E9BE0DA5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F9A68-90CF-4601-9C88-C89027C5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FD5D4-AF73-4B2E-8527-506D92E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C47C7-B64A-4A6F-83F9-781445B4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CEA7E-E8B1-4CDA-8E58-F1DCF909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182B-9C98-4249-BBDC-66F47874D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D9EA6-45ED-4902-9DCB-F052A256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94524-883A-42B7-BFA1-480EEA0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0EFE1-E917-4754-8C52-6B235067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47D30-A884-491E-A3D1-963BDDC1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F08D2-A954-4061-A571-752DCDF5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8D51D5-F343-4F48-BDD1-B6BCB54465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B6A89-2944-4E83-961A-C8E7B5218D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ED5F1-9E90-474C-B6C7-1EBE380726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E26C77-F2FD-41E1-ADCD-8EF103B1BA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84959-F86F-4CDB-972A-EF7638B75B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15EEC-8D54-45B3-B59E-2B2C6435EE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4F24B-748E-4977-8545-4D4D51C32F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3761DA-67A7-466C-AB08-D6261660B4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8374F-B29B-4428-9A82-4A94FDBD95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36469-D7D4-4042-9F07-DAC52CD07F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9D684-63F3-41DA-AFE0-A00498C87F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C44F6-527E-4621-82A4-6F22081592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0086E2-05B2-4B5C-9CBD-87DE48365F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ADC6F-DF3B-4435-88F8-8D75D0BA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BA35D-460F-4036-92D3-084197F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BFFE1-3FEE-40A4-BBBC-B27C8379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94B5-6B24-4F3D-B834-ED72CDEBCA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C4B3A-4422-40C5-AF8A-697D9A34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9E672-94F0-4C58-AC4C-4BC2C8C9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B1ED3-65FF-4427-BD53-050D16B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BFE21-2002-475F-ADF1-7D33CA3E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76A74-81D5-42F0-8153-E8D8B3A9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C0A4B-5D69-4A91-BDD8-C1C23E99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17965-0F91-4F48-937A-2BC229E7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52DE6-3244-4E7B-9FCE-DA7DF7E3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BAD1FC-0910-4899-98BC-C1ABE09A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07B1-47F8-47C9-A41B-43B69347B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A17E-E9C4-4FD3-8F22-650C9907A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5AC0-5AA4-4CFD-9700-B1D49F21B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EB43-4E7F-49F7-81A5-738CB9386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BA0E-31CF-47D6-8E86-6E57CDAB5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171840"/>
            <a:ext cx="8534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NUCLEAR POWER CORPORATION OF INDIA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6F71-D67E-450E-9893-96B181372351}" type="slidenum">
              <a:rPr b="0" lang="en-US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grpSp>
          <p:nvGrpSpPr>
            <p:cNvPr id="4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4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4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4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grpSp>
          <p:nvGrpSpPr>
            <p:cNvPr id="4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4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grpSp>
            <p:nvGrpSpPr>
              <p:cNvPr id="5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ff"/>
                    </a:solidFill>
                    <a:latin typeface="Tahoma"/>
                  </a:endParaRPr>
                </a:p>
              </p:txBody>
            </p:sp>
            <p:sp>
              <p:nvSpPr>
                <p:cNvPr id="5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ff"/>
                    </a:solidFill>
                    <a:latin typeface="Tahoma"/>
                  </a:endParaRPr>
                </a:p>
              </p:txBody>
            </p:sp>
            <p:sp>
              <p:nvSpPr>
                <p:cNvPr id="5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00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5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6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6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6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6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4A02-76A2-45AC-A6C9-6C12C5B43D7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6"/>
          </p:nvPr>
        </p:nvSpPr>
        <p:spPr>
          <a:xfrm>
            <a:off x="380520" y="6171840"/>
            <a:ext cx="8077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</a:rPr>
              <a:t>NUCLEAR POWER CORPORATION OF INDIA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251F-18E8-4070-A627-80CEBF4AD2AE}" type="slidenum">
              <a:rPr b="0" lang="en-US" sz="1400" spc="-1" strike="noStrike">
                <a:solidFill>
                  <a:srgbClr val="66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66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167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68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69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17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grpSp>
          <p:nvGrpSpPr>
            <p:cNvPr id="18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8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84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85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6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87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88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89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0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1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92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93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4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5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grpSp>
          <p:nvGrpSpPr>
            <p:cNvPr id="196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97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8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  <p:sp>
            <p:nvSpPr>
              <p:cNvPr id="199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00ff"/>
                  </a:solidFill>
                  <a:latin typeface="Tahoma"/>
                </a:endParaRPr>
              </a:p>
            </p:txBody>
          </p:sp>
        </p:grpSp>
        <p:sp>
          <p:nvSpPr>
            <p:cNvPr id="20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  <p:sp>
          <p:nvSpPr>
            <p:cNvPr id="20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00ff"/>
                </a:solidFill>
                <a:latin typeface="Tahoma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34B3-A014-45A6-BFD1-BE87E4AD675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3C1E-F9B7-4A02-ADC8-7264E8E2FBA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Verdana"/>
              </a:rPr>
              <a:t>USE OF FLY ASH IN</a:t>
            </a:r>
            <a:r>
              <a:rPr b="0" lang="en-US" sz="35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0" lang="en-US" sz="3500" spc="-1" strike="noStrike">
                <a:solidFill>
                  <a:srgbClr val="663300"/>
                </a:solidFill>
                <a:latin typeface="Verdana"/>
              </a:rPr>
              <a:t>DIFFERENT COUNTRIES</a:t>
            </a:r>
            <a:endParaRPr b="0" lang="en-US" sz="35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FC55-6AFB-4771-AD7A-229A6C0DAFD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828800" y="228600"/>
          <a:ext cx="5708520" cy="6294600"/>
        </p:xfrm>
        <a:graphic>
          <a:graphicData uri="http://schemas.openxmlformats.org/drawingml/2006/table">
            <a:tbl>
              <a:tblPr/>
              <a:tblGrid>
                <a:gridCol w="2409840"/>
                <a:gridCol w="679320"/>
                <a:gridCol w="758880"/>
                <a:gridCol w="758880"/>
                <a:gridCol w="11016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 Ash Produced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.76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Mt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CP Use (M Tonnes)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nospher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mbined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Category 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/Concrete Products /Grout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5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7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ment/ Raw Feed for Clinker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eral Fillers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Category 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owable Fill CLSM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3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tructural Fills/Embankments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oad Base/Sub-bas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Modification/Stabilization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eral Filler in Asphalt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gricultur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ggregate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Category 3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ing Applications (e.g. Backfill)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Waste Stabilization/Solidification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scellaneous/Other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 of All Beneficially Used in 2008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6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2.22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Total of All Sold in 2008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97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4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0.29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cc3300"/>
                          </a:solidFill>
                          <a:latin typeface="Tahoma"/>
                          <a:ea typeface="Arial BoldMT"/>
                        </a:rPr>
                        <a:t>Disposal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1.25</a:t>
                      </a:r>
                      <a:endParaRPr b="1" lang="en-US" sz="11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454"/>
          <p:cNvSpPr/>
          <p:nvPr/>
        </p:nvSpPr>
        <p:spPr>
          <a:xfrm>
            <a:off x="22860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D8B5-5643-4B67-BDC7-205A6935FD4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17" name="Object 4"/>
          <p:cNvGraphicFramePr/>
          <p:nvPr/>
        </p:nvGraphicFramePr>
        <p:xfrm>
          <a:off x="762120" y="1752480"/>
          <a:ext cx="75438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Text Box 5"/>
          <p:cNvSpPr/>
          <p:nvPr/>
        </p:nvSpPr>
        <p:spPr>
          <a:xfrm>
            <a:off x="83808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Japan; Different avenues (based on JCOAL, 2006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0BA5-4871-43EB-8A9F-338CCD4BF4B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1417680"/>
          <a:ext cx="7000560" cy="5121360"/>
        </p:xfrm>
        <a:graphic>
          <a:graphicData uri="http://schemas.openxmlformats.org/drawingml/2006/table">
            <a:tbl>
              <a:tblPr/>
              <a:tblGrid>
                <a:gridCol w="984240"/>
                <a:gridCol w="2109600"/>
                <a:gridCol w="708120"/>
                <a:gridCol w="763560"/>
                <a:gridCol w="585720"/>
                <a:gridCol w="631800"/>
                <a:gridCol w="585720"/>
                <a:gridCol w="631800"/>
              </a:tblGrid>
              <a:tr h="5202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Item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Electric Power Utiliti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eneral Industri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Secto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tent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Qty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Qty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Qty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aw materi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81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1.6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6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2.7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88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2.6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dmixtur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7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.1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7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eady mixe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0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02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4.3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24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8.8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727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6.2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Public wor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treat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6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5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9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ublic wor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0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.4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2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4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0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ublic works for electric pow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ubgrade stabiliz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7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6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9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sphalt fill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ackfilling in coal min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.2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9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.5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0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.2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Text Box 699"/>
          <p:cNvSpPr/>
          <p:nvPr/>
        </p:nvSpPr>
        <p:spPr>
          <a:xfrm>
            <a:off x="228600" y="228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AF04-C34D-4F26-B80F-91E748C9193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0120" y="830160"/>
          <a:ext cx="8086680" cy="5394600"/>
        </p:xfrm>
        <a:graphic>
          <a:graphicData uri="http://schemas.openxmlformats.org/drawingml/2006/table">
            <a:tbl>
              <a:tblPr/>
              <a:tblGrid>
                <a:gridCol w="2190600"/>
                <a:gridCol w="1914480"/>
                <a:gridCol w="801720"/>
                <a:gridCol w="696960"/>
                <a:gridCol w="620640"/>
                <a:gridCol w="621000"/>
                <a:gridCol w="620640"/>
                <a:gridCol w="620640"/>
              </a:tblGrid>
              <a:tr h="307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Construction wor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struction boar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2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9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.8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6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4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Lightweight aggregat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 produc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28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.8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95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7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Agriculture, forestry &amp; fisheri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ertiliz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improv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7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8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hawing materi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0.77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.55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.3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Other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wag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Iron manufactur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4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7.2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40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3.1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5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7.39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18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421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3.33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1" lang="en-US" sz="13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931"/>
          <p:cNvSpPr/>
          <p:nvPr/>
        </p:nvSpPr>
        <p:spPr>
          <a:xfrm>
            <a:off x="228600" y="228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3866-ABC6-4DC6-BA1E-F8DBA1C9EEE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33" name="Object 4"/>
          <p:cNvGraphicFramePr/>
          <p:nvPr/>
        </p:nvGraphicFramePr>
        <p:xfrm>
          <a:off x="1752480" y="1981080"/>
          <a:ext cx="74170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7417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5"/>
          <p:cNvSpPr/>
          <p:nvPr/>
        </p:nvSpPr>
        <p:spPr>
          <a:xfrm>
            <a:off x="83808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Canada; Different avenues (based on CIRCA, 2010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04C6-6DEE-4B15-B106-DD927722C1C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43000" y="1219320"/>
          <a:ext cx="6934320" cy="3576600"/>
        </p:xfrm>
        <a:graphic>
          <a:graphicData uri="http://schemas.openxmlformats.org/drawingml/2006/table">
            <a:tbl>
              <a:tblPr/>
              <a:tblGrid>
                <a:gridCol w="2057400"/>
                <a:gridCol w="853920"/>
                <a:gridCol w="1168560"/>
                <a:gridCol w="1281240"/>
                <a:gridCol w="787320"/>
                <a:gridCol w="785880"/>
              </a:tblGrid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 Produc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6.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Uses Area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GD Gypsum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38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4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9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 / Grou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Mining Applic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oad Base / Subbas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7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1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Wall Boar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4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6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3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9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72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.45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347"/>
          <p:cNvSpPr/>
          <p:nvPr/>
        </p:nvSpPr>
        <p:spPr>
          <a:xfrm>
            <a:off x="228600" y="228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48F3-C3FA-442A-A60C-0A77A258CD18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83808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China; Different avenues (based on Wang &amp; Wu, 2004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pic>
        <p:nvPicPr>
          <p:cNvPr id="345" name="Picture 6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3657600" cy="3467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"/>
          <p:cNvGraphicFramePr/>
          <p:nvPr/>
        </p:nvGraphicFramePr>
        <p:xfrm>
          <a:off x="2743200" y="3657600"/>
          <a:ext cx="1258920" cy="517680"/>
        </p:xfrm>
        <a:graphic>
          <a:graphicData uri="http://schemas.openxmlformats.org/drawingml/2006/table">
            <a:tbl>
              <a:tblPr/>
              <a:tblGrid>
                <a:gridCol w="1258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sal 56,8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3886200" y="2057400"/>
          <a:ext cx="1339920" cy="115884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es and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vil engineering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8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791320" y="3352680"/>
          <a:ext cx="1339560" cy="517680"/>
        </p:xfrm>
        <a:graphic>
          <a:graphicData uri="http://schemas.openxmlformats.org/drawingml/2006/table">
            <a:tbl>
              <a:tblPr/>
              <a:tblGrid>
                <a:gridCol w="1339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oration 6,7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5867280" y="3962520"/>
          <a:ext cx="1339920" cy="517320"/>
        </p:xfrm>
        <a:graphic>
          <a:graphicData uri="http://schemas.openxmlformats.org/drawingml/2006/table">
            <a:tbl>
              <a:tblPr/>
              <a:tblGrid>
                <a:gridCol w="13399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riculture 1,8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867280" y="4495680"/>
          <a:ext cx="1081080" cy="51768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 1,9%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1447920" y="5164200"/>
          <a:ext cx="7086600" cy="169380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In some developed areas, Shanghai, Nanjing and Nantong of Jiangsu Province and Nanchang of Jiangxi Province, the utilization rate of produced fly ash was 100% in the past five years and used extensively in geotechnical engineering of road construction and wallboard materials</a:t>
                      </a: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Rectangle 66"/>
          <p:cNvSpPr/>
          <p:nvPr/>
        </p:nvSpPr>
        <p:spPr>
          <a:xfrm>
            <a:off x="1828800" y="6553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911A-B52B-4AEB-92F3-19E554D6BEA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609480" y="2286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76212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Tahoma"/>
              </a:rPr>
              <a:t>Fly ash in high value added applications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371600" y="1143000"/>
          <a:ext cx="6248520" cy="2809800"/>
        </p:xfrm>
        <a:graphic>
          <a:graphicData uri="http://schemas.openxmlformats.org/drawingml/2006/table">
            <a:tbl>
              <a:tblPr/>
              <a:tblGrid>
                <a:gridCol w="1562040"/>
                <a:gridCol w="468648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tegory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 value-added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ineral extracti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lumina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agnetit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Ir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arb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enospher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Other minor and trace item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238-F5CE-45A9-9646-843EF58B9EE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219320" y="914400"/>
          <a:ext cx="7315200" cy="5369040"/>
        </p:xfrm>
        <a:graphic>
          <a:graphicData uri="http://schemas.openxmlformats.org/drawingml/2006/table">
            <a:tbl>
              <a:tblPr/>
              <a:tblGrid>
                <a:gridCol w="1828800"/>
                <a:gridCol w="5486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tegory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 value-added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8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nstruction and engineering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Enhanced Pozzolana cement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Oil Well Cement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Decorative glas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eramic Fiber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Glazed floor and wall til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sh alloy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Synthetic marbl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High ware resistance ceramic til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Reflective materia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Ultra light hollow sphere for arid zon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ontinuous casting mould powd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Domestic cleaning powd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Synthetic wood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Text Box 18"/>
          <p:cNvSpPr/>
          <p:nvPr/>
        </p:nvSpPr>
        <p:spPr>
          <a:xfrm>
            <a:off x="914400" y="3049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B7E6-CB0E-4611-ABEC-729853AC365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09480" y="2286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62120" y="2286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Tahoma"/>
              </a:rPr>
              <a:t>Cont… 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219320" y="762120"/>
          <a:ext cx="6476760" cy="5825880"/>
        </p:xfrm>
        <a:graphic>
          <a:graphicData uri="http://schemas.openxmlformats.org/drawingml/2006/table">
            <a:tbl>
              <a:tblPr/>
              <a:tblGrid>
                <a:gridCol w="1619280"/>
                <a:gridCol w="485748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tegory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High value-added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Fill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ineral filler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Distemp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Plastic filler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Protective materia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ire Brick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ire abatement application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Glass Ceramic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oam insulation product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nti-corrosion coating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Mineral Woo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Waste treatment material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GD Adsorbent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Synthetic Zeolit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ctivated Cenospheres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griculture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ultivation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Potassium silicate fertilizer</a:t>
                      </a:r>
                      <a:endParaRPr b="1" lang="en-US" sz="20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84A5-5276-43CC-B0EF-03EEC455AE9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1747800" y="1071720"/>
            <a:ext cx="5648400" cy="47145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"/>
          <p:cNvSpPr/>
          <p:nvPr/>
        </p:nvSpPr>
        <p:spPr>
          <a:xfrm>
            <a:off x="1600200" y="228600"/>
            <a:ext cx="647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1447920" y="1522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Various areas of use of Ash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0A2E-2F5F-4706-86A4-3F85C9487C1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838080" y="9144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762120" y="22860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33"/>
                </a:solidFill>
                <a:latin typeface="Tahoma"/>
              </a:rPr>
              <a:t>Cont… 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066680" y="1676520"/>
            <a:ext cx="7315200" cy="39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ahoma"/>
              </a:rPr>
              <a:t>These kinds of high value added products consume lower volume of fly ash than that of construction, back fill and road pavement applications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ahoma"/>
              </a:rPr>
              <a:t>However, they have the potential in generating considerable sales revenues for power plants and manufacturers, which helps to prompt the development of different high level Ash technologies</a:t>
            </a: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8A60-0C01-4CFB-978D-25618749F3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066680" y="457200"/>
            <a:ext cx="7467840" cy="55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Eco-Industry Park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(A conceptual model)</a:t>
            </a:r>
            <a:endParaRPr b="1" lang="en-US" sz="2800" spc="-1" strike="noStrike">
              <a:solidFill>
                <a:srgbClr val="ff00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EIP derived from the idea of industry symbiosis could be realized to optimize and maximize the use of Ash 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20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Ash generated from the power plants are used as feed stocks for various applications and the produced electricity is supplied to those plants as primary energy source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6085-3B45-40ED-A471-3EB61673522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574-1BDE-4486-811E-0BC7E1BB904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762120" y="1066680"/>
            <a:ext cx="7848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There is a need for concerted effort to promote the "technically sound", "environmentally safe", and "economically justified" utilization of Ash. 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A number of researches and projects on high levels utilization of Ash have been carried out in many part of world, however, the majority of which have not yet been commercialized. 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c99ff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ahoma"/>
              </a:rPr>
              <a:t>It should be emphasized that transforming such laboratory- or pilot-scale technologies into industrial productivity is of the highest priority for increased use of Ash.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295280" y="304920"/>
            <a:ext cx="403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16765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Conclusion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3059-FD53-47AE-B45D-2BDBF1879CA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685800" y="13716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Fly ash should be considered as an essential ingredient of concrete and not merely for replacement of cement  or reduction in cost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7FC-F1FD-49B2-88C4-C3AE0EF3D19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143000" y="1600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ff"/>
                </a:solidFill>
                <a:uFillTx/>
                <a:latin typeface="Tahoma"/>
              </a:rPr>
              <a:t>ThanQ?</a:t>
            </a:r>
            <a:endParaRPr b="1" lang="en-US" sz="7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62BB-A867-4497-BEF4-5952687BC35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990720" y="1522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Ash production and use in different countries</a:t>
            </a:r>
            <a:r>
              <a:rPr b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 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3000" y="190512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1397160"/>
          <a:ext cx="7543800" cy="470196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1295280"/>
                <a:gridCol w="1295640"/>
                <a:gridCol w="761760"/>
                <a:gridCol w="1600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untry/Region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sh Production   (Million ton)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sh Utilization   (Mt)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tilization   Rate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%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Year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References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US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34.7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5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42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CAA, 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hin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20.02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9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8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Wang, 2004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EU 15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6.4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2.4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92.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ECOBA, 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Australi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3.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5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8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ADAA. 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Japan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1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0.7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97.2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JCOAL, 201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anad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6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.3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33.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CIRCA, 201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India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145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78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50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2009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ff"/>
                          </a:solidFill>
                          <a:latin typeface="Tahoma"/>
                        </a:rPr>
                        <a:t>FAU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220-CF01-45B5-9BAE-6FBF76F01F5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457200" y="1371600"/>
          <a:ext cx="842004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420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5"/>
          <p:cNvSpPr/>
          <p:nvPr/>
        </p:nvSpPr>
        <p:spPr>
          <a:xfrm>
            <a:off x="533520" y="152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USA; Different avenues (based on ACAA, 2009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184560" y="3360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33520" y="12193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0" y="990720"/>
            <a:ext cx="4114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roduction 134.7 Million Ton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Utilization   55.6 (42%)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sposal      79.06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D9FD-28B7-4E80-A3FE-0EECC52995D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676520" y="142920"/>
          <a:ext cx="6896160" cy="6613560"/>
        </p:xfrm>
        <a:graphic>
          <a:graphicData uri="http://schemas.openxmlformats.org/drawingml/2006/table">
            <a:tbl>
              <a:tblPr/>
              <a:tblGrid>
                <a:gridCol w="2539800"/>
                <a:gridCol w="1155960"/>
                <a:gridCol w="825480"/>
                <a:gridCol w="711000"/>
                <a:gridCol w="762120"/>
                <a:gridCol w="901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CP Categorie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iler Slag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GD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.   Concrete/Concrete Products /Grout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9.8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0.5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2.   Blended Cement/ Raw Feed for Clinker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4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5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3.   Flowable Fill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4.   Structural Fills/Embankment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4.6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9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9.0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5.   Road Base/Sub-base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7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9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6.   Soil Modification/Stabilization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96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7.   Mineral Filler in Asphalt 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8.   Snow and Ice Control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3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9.   Blasting Grit/Roofing Granule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6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7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0. Mining Application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1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2.3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5.0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1. Gypsum Panel Products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.2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7.2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2. Waste Stabilization/Solidification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5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2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74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3. Agriculture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8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4. Aggregate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5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15. Miscellaneous/Other</a:t>
                      </a:r>
                      <a:endParaRPr b="1" lang="en-US" sz="1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7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3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-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0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Total Utiliz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55.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9.06</a:t>
                      </a:r>
                      <a:endParaRPr b="1" lang="en-US" sz="16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4" name="Text Box 680"/>
          <p:cNvSpPr/>
          <p:nvPr/>
        </p:nvSpPr>
        <p:spPr>
          <a:xfrm>
            <a:off x="228600" y="152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32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14F-F18F-43E7-BC55-16908D1E82A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762120" y="304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Europe (EU15); Different avenues (based on ECOBA, 2009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89" name="Object 7"/>
          <p:cNvGraphicFramePr/>
          <p:nvPr/>
        </p:nvGraphicFramePr>
        <p:xfrm>
          <a:off x="914400" y="1905120"/>
          <a:ext cx="7594560" cy="41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594560" cy="41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8"/>
          <p:cNvSpPr/>
          <p:nvPr/>
        </p:nvSpPr>
        <p:spPr>
          <a:xfrm>
            <a:off x="0" y="1219320"/>
            <a:ext cx="4114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roduction 56.42 Million Ton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Utilization   54.8 (92.9%)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sposal      4.00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F6B-7798-43E6-840B-4ECBE7D78B4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04800" y="1036800"/>
          <a:ext cx="619128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863640"/>
                <a:gridCol w="863640"/>
                <a:gridCol w="730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otal Produc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6.42 M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ctor of us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Fly Ash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ttom Ash 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oiler Slag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ement raw materi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3.86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lended 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4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Concrete addi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7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erated concrete bloc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6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Non-aerated concrete bloc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1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8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Lightweight aggregat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ricks + ceramic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5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routing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4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Asphalt fill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5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ubgrade stabilis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2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6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avement base cours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2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1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eneral engineering fil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5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51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9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Text Box 471"/>
          <p:cNvSpPr/>
          <p:nvPr/>
        </p:nvSpPr>
        <p:spPr>
          <a:xfrm>
            <a:off x="22860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28E-27DA-4BB3-AC85-6A2080B5632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22860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Cont…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04800" y="1506600"/>
          <a:ext cx="6343920" cy="4267080"/>
        </p:xfrm>
        <a:graphic>
          <a:graphicData uri="http://schemas.openxmlformats.org/drawingml/2006/table">
            <a:tbl>
              <a:tblPr/>
              <a:tblGrid>
                <a:gridCol w="2743200"/>
                <a:gridCol w="990720"/>
                <a:gridCol w="863640"/>
                <a:gridCol w="863640"/>
                <a:gridCol w="882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tructural fil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84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8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1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oil amend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2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Infil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4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Blasting gri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6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lant nutri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0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t retarder for cement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63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rojection plaster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1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Plaster board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5.57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Gypsum block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0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Self levelling floor screed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53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Other uses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7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68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14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08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Reclamation, Restoration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7.07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90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874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Temporary stockpile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82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216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32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ff"/>
                          </a:solidFill>
                          <a:latin typeface="Tahoma"/>
                          <a:ea typeface="Arial"/>
                        </a:rPr>
                        <a:t>Disposal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2.231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0.459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9933"/>
                          </a:solidFill>
                          <a:latin typeface="Tahoma"/>
                          <a:ea typeface="Arial"/>
                        </a:rPr>
                        <a:t>1.383</a:t>
                      </a:r>
                      <a:endParaRPr b="1" lang="en-US" sz="1400" spc="-1" strike="noStrike">
                        <a:solidFill>
                          <a:srgbClr val="ff00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2/22/2011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USE OF FLY ASH IN DIFFERENT COUNTRIES</a:t>
            </a:r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6D9E-D1B0-4AF9-AF2B-118541F8AD2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62120" y="304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Utilization of Ash in Australia; Different avenues (based on ADAA, 2009)</a:t>
            </a:r>
            <a:endParaRPr b="1" lang="en-US" sz="2400" spc="-1" strike="noStrike">
              <a:solidFill>
                <a:srgbClr val="ff00ff"/>
              </a:solidFill>
              <a:latin typeface="Tahoma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838080" y="1981080"/>
          <a:ext cx="755676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567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9"/>
          <p:cNvSpPr/>
          <p:nvPr/>
        </p:nvSpPr>
        <p:spPr>
          <a:xfrm>
            <a:off x="0" y="1219320"/>
            <a:ext cx="4114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Production 13.76 Million Ton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Utilization   2.51 (18.0%)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ahoma"/>
              </a:rPr>
              <a:t>Disposal      11.25</a:t>
            </a:r>
            <a:endParaRPr b="1" lang="en-US" sz="2000" spc="-1" strike="noStrike">
              <a:solidFill>
                <a:srgbClr val="ff00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2:42:32Z</dcterms:created>
  <dc:creator>civil engineering project</dc:creator>
  <dc:description/>
  <dc:language>en-US</dc:language>
  <cp:lastModifiedBy>Brigade</cp:lastModifiedBy>
  <cp:lastPrinted>2006-01-25T09:12:11Z</cp:lastPrinted>
  <dcterms:modified xsi:type="dcterms:W3CDTF">2011-08-04T08:07:16Z</dcterms:modified>
  <cp:revision>0</cp:revision>
  <dc:subject/>
  <dc:title>civil engineering project</dc:title>
</cp:coreProperties>
</file>